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893-8C57-464D-A684-F30C6D03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A6F-18FE-467C-BBAB-94A48050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97E-B7C9-4D3C-A3F0-C251806E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F81-273B-474A-ABB6-D54AEBA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234-9BE4-4667-BD18-4AFB2FA2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6BC-2CEC-4F82-ACFF-69F04DA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3C7-98C6-4CDB-8A96-5113C06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CCF-3427-4A9E-8C6B-B51484DE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699-CC96-47D1-9BCA-378FBA1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BC2-2136-4358-888C-40F0F0A0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3BD-A3A6-44A9-B8C6-DE2DA4D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C90-BC03-4962-A286-FE83E78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2054-611C-4ADD-AD48-26B667C9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95680" y="39625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Cas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2849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4038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y Sean Klopoto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343400"/>
            <a:ext cx="9144000" cy="146556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asa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 localizada en Ashland, MA. Está en la calle Hickory. La casa cuesta $500,000. Mi casa tiene un cuarto grande y cuatro cuartos pequeño. Tiene una cocina estupenda con una estufa, una lanevera, y u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onda. Tiene un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 en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 piso  y dos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os en 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ndo piso. Tiene una sala bonita, un comedor viejo, y un garaje estupend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9:30Z</dcterms:created>
  <dc:creator>sklopotoski</dc:creator>
  <dc:description/>
  <dc:language>en-US</dc:language>
  <cp:lastModifiedBy>sklopotoski</cp:lastModifiedBy>
  <dcterms:modified xsi:type="dcterms:W3CDTF">2012-05-22T17:20:39Z</dcterms:modified>
  <cp:revision>6</cp:revision>
  <dc:subject/>
  <dc:title>Slide 1</dc:title>
</cp:coreProperties>
</file>